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511-C3B3-453C-9012-65710668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246-D88D-45C3-B27D-F9EB810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3EE-1163-456F-82ED-C0455050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DD9-6362-4083-A766-FD1FBE26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25C-FD13-477A-8967-57CD8161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9EC-4559-4216-9B1C-F684C85E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1E2-61D9-4B55-9D4F-29A22A21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78F-BFAA-4DB9-AC4E-130C960E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6AF-EAE8-4DB1-BFB4-C5F2998F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F24-A577-45D8-88A6-46F77B6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EA0-08FC-406A-B13D-B544E445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55C-4E0E-4EEF-A32F-B211796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BAAC-7596-4840-A5AF-86C0156C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7" descr=""/>
          <p:cNvPicPr/>
          <p:nvPr/>
        </p:nvPicPr>
        <p:blipFill>
          <a:blip r:embed="rId1"/>
          <a:stretch/>
        </p:blipFill>
        <p:spPr>
          <a:xfrm>
            <a:off x="0" y="0"/>
            <a:ext cx="523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ربّي يَسوع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لَيْسَ لي سِواك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أتبَعُكَ ربّي دَ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بَعُكَ بِلا رُجُوع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سبِّحُ اسمَكَ القُدّو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َيْسَ ل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ِ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حِبُّكَ يا روحَ الل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ربّي دو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مُرُني بلا 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مسَحُني بقوَّةٍ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7200" y="4329000"/>
            <a:ext cx="657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يا أُبّا الآب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بِحُبِّكَ تغمُرُني بِمَجْدِ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َجْثو أمامَ عَرْشِ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44:51Z</dcterms:created>
  <dc:creator>USER</dc:creator>
  <dc:description/>
  <dc:language>en-US</dc:language>
  <cp:lastModifiedBy>USER</cp:lastModifiedBy>
  <dcterms:modified xsi:type="dcterms:W3CDTF">2002-12-16T14:44:02Z</dcterms:modified>
  <cp:revision>2</cp:revision>
  <dc:subject/>
  <dc:title>PowerPoint Presentation</dc:title>
</cp:coreProperties>
</file>